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A7E4-E536-416F-BCF5-F1793D1D8F9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D382-D9E4-4AA8-9E0C-AB09E5A5A87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D135-8B9B-43D4-9177-5EF9A0D519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F1A0-AEB4-46E2-BB4B-62702FFD33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7AA7-E9C5-4946-99CB-CD47582958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ECCE-1FFF-4A23-A21E-3CE19A75EB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369A-9140-4E5D-AA23-9D45C9ED2B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1EA1-51FD-4700-9C6C-96DD7D56E43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8D53-B569-4EFF-A803-CFBD77321C7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2863-92ED-4912-A58C-BC730D7033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3D59-E064-44A8-8591-86530323279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C012-20F8-4D57-941F-696CB1AAB0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5D98-3EB3-466F-9930-9766F1809D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E9F7-238B-435B-9ACF-8DF88B4C23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16B-D714-4628-B54C-EE10B4258C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D653-B2CF-4A9C-BF13-4BFDE054FD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4DB8-86A6-4AC2-9420-1A1B3CD2F4C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CB18-ED51-41E4-AF6B-D756B1F612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2C9C-EA9A-4BD7-BE88-DF1FF44A4C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5A14-E76A-489F-9C93-E3A7C1FC2A0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388-AC1C-4501-BCB0-9E301FDAFC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BDAD-0D3A-4EC1-9F3E-F7D8730756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F1A9-A867-413B-9BC0-55FC775177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288D-7183-463F-8655-B91ABB73A8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A4BF-5D72-4D0E-BC0F-62241B8E5C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CB10-7C2C-4533-BC6D-887D8432A9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00D4-EB0B-48E1-8F32-123EC2208A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9F7C-CBCD-4173-9743-0E2BEA49EC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CFC3-A672-4F65-99A8-A6B9DE052A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78A1-E2E8-47E4-B462-DDE616ECEF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BEEF-231C-4A4F-ABF0-8C1C835792E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69B1-E9B4-48DF-BA8F-C5AF432F561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785-5723-426B-85CE-B7AC64BC16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E201-505F-41B7-B971-3B116161693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87E2-974E-49F9-9788-8F08BDB890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D785-E6BE-42AF-A134-9D5135DD0C9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9D82-B8C3-45F0-B473-A403577FC5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58AD-288F-4216-BA42-70A06D89E6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8E4F-D2F5-4659-95B9-B71904A54E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3402-DB6D-4DB3-B0D4-F018EBCE90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6254-7946-46E5-B6DC-29959EFF97D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B81F-72BC-4E05-A085-3454AFFA79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6A77-8D23-4332-8875-DBB4D5D579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4A9-83F9-4825-820D-8D89BD0280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58B-9685-411E-9F80-29D5EB18D8D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12E-BB11-4BDB-A7CF-29A2AC23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F7E-76D4-4F15-B925-A858E33A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E99-A539-4850-AE60-91E6883E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C88-73ED-4769-A80B-345A3DD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4A1-0668-4103-B7CB-4B06B628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80E-1F44-4611-8EBF-3D4EC5DF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02A-1316-47A8-9041-7D12621C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787-D527-485D-AD8E-FE2AF20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BD2-D659-47EB-B65C-7CBE94C3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19F-3D74-4309-925A-7F29CBB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C0F-A565-4782-8CE1-E6FED708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EA9-FF2A-4B2A-98A8-B1F947CC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3560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405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426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5"/>
          <p:cNvSpPr/>
          <p:nvPr/>
        </p:nvSpPr>
        <p:spPr>
          <a:xfrm>
            <a:off x="39600" y="65530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2014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5"/>
          <p:cNvSpPr/>
          <p:nvPr/>
        </p:nvSpPr>
        <p:spPr>
          <a:xfrm>
            <a:off x="39600" y="65530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2014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3560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405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426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8C97-D7B9-4298-A0B1-9CEBAD2D38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le 1"/>
          <p:cNvSpPr/>
          <p:nvPr/>
        </p:nvSpPr>
        <p:spPr>
          <a:xfrm>
            <a:off x="4419720" y="1676520"/>
            <a:ext cx="4647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tter, Measurement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Problem Sol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19720" y="1143000"/>
            <a:ext cx="47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e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4419720" y="5791320"/>
            <a:ext cx="4724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son So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0924Tro3e_ecat.jpg"/>
          <p:cNvPicPr/>
          <p:nvPr/>
        </p:nvPicPr>
        <p:blipFill>
          <a:blip r:embed="rId1"/>
          <a:stretch/>
        </p:blipFill>
        <p:spPr>
          <a:xfrm>
            <a:off x="304920" y="990720"/>
            <a:ext cx="40939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mixtures is separated best by deca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queous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and a 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olatile liquid and a non-volatile 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mixtures is separated best by deca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queous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olid and a 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olatile liquid and a non-volatile 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X:\50627 IRDVD Tro Chemistry A Molecular Approach\Working Files 50627\JPEG 50627\ch01\01_09_FigureC.jpg"/>
          <p:cNvPicPr/>
          <p:nvPr/>
        </p:nvPicPr>
        <p:blipFill>
          <a:blip r:embed="rId1"/>
          <a:srcRect l="29865" t="0" r="24039" b="10270"/>
          <a:stretch/>
        </p:blipFill>
        <p:spPr>
          <a:xfrm>
            <a:off x="4821120" y="3979800"/>
            <a:ext cx="2832120" cy="24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represents a chemical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ing water to make ice c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ice evaporating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sting a piece of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ving sugar in hot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hing an aluminum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X:\50627 IRDVD Tro Chemistry A Molecular Approach\Working Files 50627\JPEG 50627\ch01\01_09_FigureC.jpg"/>
          <p:cNvPicPr/>
          <p:nvPr/>
        </p:nvPicPr>
        <p:blipFill>
          <a:blip r:embed="rId1"/>
          <a:srcRect l="0" t="0" r="0" b="10270"/>
          <a:stretch/>
        </p:blipFill>
        <p:spPr>
          <a:xfrm>
            <a:off x="2986200" y="3979800"/>
            <a:ext cx="6143400" cy="2414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represents a chemical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ing water to make ice c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ice evaporating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asting a piece of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ving sugar in hot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hing an aluminum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chemic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eezing oranges to make orange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butter for pop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ng sand from g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 decomposing to wa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as a gas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chemic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eezing oranges to make orange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butter for pop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ng sand from g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ogen peroxide decomposing to wa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as a gas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always conserved in a physical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with low potential energy tend to 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direction of high potential energy spo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energy is a form of potential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with high potential energy are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potential energy is a form of kinetic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is always conserved in a physical 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with low potential energy tend to 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direction of high potential energy spo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energy is a form of potential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with high potential energy are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potential energy is a form of kinetic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NOT a base un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NOT a base un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hypo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s form when a liquid is heated in a tea 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bbles are the gas state of the original liq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cules in the liquid have enough energy to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est whether the bubbles are the gas state of the liquid by removing the heat, at which point the gas should cond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0" t="0" r="0" b="2783"/>
          <a:stretch/>
        </p:blipFill>
        <p:spPr>
          <a:xfrm>
            <a:off x="5202360" y="1944720"/>
            <a:ext cx="38574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ine vaporizes at –34.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What is this temperature in degrees Fahrenh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.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.7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7.5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.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lorine vaporizes at –34.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What is this temperature in degrees Fahrenh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.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.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8.7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7.5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3.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s in Death Valley can rise above 120 ° F.  What is this temperature in Kelv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2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rcRect l="75687" t="14038" r="1287" b="15273"/>
          <a:stretch/>
        </p:blipFill>
        <p:spPr>
          <a:xfrm>
            <a:off x="5376960" y="2446200"/>
            <a:ext cx="26845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s in Death Valley can rise above 120 ° F.  What is this temperature in Kelv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2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75687" t="14038" r="1287" b="15273"/>
          <a:stretch/>
        </p:blipFill>
        <p:spPr>
          <a:xfrm>
            <a:off x="5376960" y="2446200"/>
            <a:ext cx="26845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would NOT be considered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nsive proper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an unknown s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olid at 25 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density of 1.38 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lts at 62.0 °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volume of 0.52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h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would NOT be considered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nsive proper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ing an unknown s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olid at 25 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density of 1.38 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lts at 62.0 °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volume of 0.52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h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ensity of a solution that has a mass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5 g and a volume of 15.8 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7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9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54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ensity of a solution that has a mass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5 g and a volume of 15.8 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7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9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854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has the largest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514600"/>
            <a:ext cx="488304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has a m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10.0 g and a volum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has a m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5.00 g and a volum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sink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but floats o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0" t="0" r="0" b="2778"/>
          <a:stretch/>
        </p:blipFill>
        <p:spPr>
          <a:xfrm>
            <a:off x="5546880" y="1655640"/>
            <a:ext cx="26096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has the largest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514600"/>
            <a:ext cx="488304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has a m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10.0 g and a volum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erial that has a m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5.00 g and a volum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terial that sinks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anol but floats o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rcRect l="0" t="0" r="0" b="2778"/>
          <a:stretch/>
        </p:blipFill>
        <p:spPr>
          <a:xfrm>
            <a:off x="5546880" y="1655640"/>
            <a:ext cx="26096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hypo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s form when a liquid is heated in a tea 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ubbles are the gas state of the original liq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cules in the liquid have enough energy to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est whether the bubbles are the gas state of the liquid by removing the heat, at which point the gas should cond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0" t="0" r="0" b="2783"/>
          <a:stretch/>
        </p:blipFill>
        <p:spPr>
          <a:xfrm>
            <a:off x="5202360" y="1944720"/>
            <a:ext cx="38574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3960" y="2951280"/>
            <a:ext cx="82296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5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reading a graduated cylinder, read the volume at the bottom of the meniscu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volume of liquid is in the graduated cyli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rcRect l="0" t="0" r="0" b="13892"/>
          <a:stretch/>
        </p:blipFill>
        <p:spPr>
          <a:xfrm>
            <a:off x="5378400" y="3059280"/>
            <a:ext cx="2759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ontent Placeholder 2"/>
          <p:cNvSpPr/>
          <p:nvPr/>
        </p:nvSpPr>
        <p:spPr>
          <a:xfrm>
            <a:off x="453960" y="2951280"/>
            <a:ext cx="82296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4.56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reading a graduated cylinder, read the volume at the bottom of the meniscu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volume of liquid is in the graduated cyli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" descr=""/>
          <p:cNvPicPr/>
          <p:nvPr/>
        </p:nvPicPr>
        <p:blipFill>
          <a:blip r:embed="rId1"/>
          <a:srcRect l="0" t="0" r="0" b="13892"/>
          <a:stretch/>
        </p:blipFill>
        <p:spPr>
          <a:xfrm>
            <a:off x="5378400" y="3059280"/>
            <a:ext cx="2759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numbers has four significant fig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0" r="0" b="31944"/>
          <a:stretch/>
        </p:blipFill>
        <p:spPr>
          <a:xfrm>
            <a:off x="4657680" y="2514600"/>
            <a:ext cx="3544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numbers has four significant fig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rcRect l="0" t="0" r="0" b="31944"/>
          <a:stretch/>
        </p:blipFill>
        <p:spPr>
          <a:xfrm>
            <a:off x="4657680" y="2514600"/>
            <a:ext cx="3544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following with the correct number of significant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453960" y="2951280"/>
            <a:ext cx="82296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2460600" y="1987560"/>
            <a:ext cx="42163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following with the correct number of significant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tent Placeholder 2"/>
          <p:cNvSpPr/>
          <p:nvPr/>
        </p:nvSpPr>
        <p:spPr>
          <a:xfrm>
            <a:off x="453960" y="2951280"/>
            <a:ext cx="82296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2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460600" y="1987560"/>
            <a:ext cx="42163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ent measures the mass of a penny four times and records the following data.  What can be said about the data if the actual mass of the penny 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987 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706840"/>
          <a:ext cx="2590560" cy="37875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s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Content Placeholder 2"/>
          <p:cNvSpPr/>
          <p:nvPr/>
        </p:nvSpPr>
        <p:spPr>
          <a:xfrm>
            <a:off x="453960" y="2952720"/>
            <a:ext cx="50562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both accu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and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neither accu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nor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accurate, but n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not accurate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it is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ent measures the mass of a penny four times and records the following data.  What can be said about the data if the actual mass of the penny 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987 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19920" y="2706840"/>
          <a:ext cx="2590560" cy="37875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s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Content Placeholder 2"/>
          <p:cNvSpPr/>
          <p:nvPr/>
        </p:nvSpPr>
        <p:spPr>
          <a:xfrm>
            <a:off x="453960" y="2952720"/>
            <a:ext cx="50562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both accu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and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neither accu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nor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accurate, but n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The data is not accurate, bu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eneva"/>
              </a:rPr>
              <a:t>it is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ounces of mercury are in 1.0 cubic meters  of mercury? Hint: the density of mercury is 13.55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 ounce = 28.35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8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rcRect l="0" t="0" r="0" b="2780"/>
          <a:stretch/>
        </p:blipFill>
        <p:spPr>
          <a:xfrm>
            <a:off x="5086440" y="2514600"/>
            <a:ext cx="3249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ounces of mercury are in 1.0 cubic meters  of mercury? Hint: the density of mercury is 13.55 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 ounce = 28.35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8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0" t="0" r="0" b="2780"/>
          <a:stretch/>
        </p:blipFill>
        <p:spPr>
          <a:xfrm>
            <a:off x="5086440" y="2514600"/>
            <a:ext cx="3249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correct for the material pic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seous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quid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seous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0" t="0" r="0" b="11110"/>
          <a:stretch/>
        </p:blipFill>
        <p:spPr>
          <a:xfrm>
            <a:off x="5367240" y="2076480"/>
            <a:ext cx="3200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be has an edge length of 6.4 in.  What is the volume of the cube in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be has an edge length of 6.4 in.  What is the volume of the cube in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3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mass of 2.5 cups of water if the density of water is 1.00 g/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 cup = 24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rcRect l="25887" t="35942" r="51082" b="8213"/>
          <a:stretch/>
        </p:blipFill>
        <p:spPr>
          <a:xfrm>
            <a:off x="5799240" y="2541600"/>
            <a:ext cx="19652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mass of 2.5 cups of water if the density of water is 1.00 g/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 cup = 24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0 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–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rcRect l="25887" t="35942" r="51082" b="8213"/>
          <a:stretch/>
        </p:blipFill>
        <p:spPr>
          <a:xfrm>
            <a:off x="5799240" y="2541600"/>
            <a:ext cx="19652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be of aluminum (density = 2.70 g/mL) has a mass of 17.2 g.  What is the edge length of the c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9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ube of aluminum (density = 2.70 g/mL) has a mass of 17.2 g.  What is the edge length of the c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8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9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correct for the material pic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aseous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quid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seous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0" t="0" r="0" b="11110"/>
          <a:stretch/>
        </p:blipFill>
        <p:spPr>
          <a:xfrm>
            <a:off x="5367240" y="2076480"/>
            <a:ext cx="3200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pure subst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f st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pure subst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f st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ju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heterogeneous mi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a heterogeneous mi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514600"/>
            <a:ext cx="822960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cken 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2:50:26Z</dcterms:created>
  <dc:creator>GEXINC</dc:creator>
  <dc:description/>
  <dc:language>en-US</dc:language>
  <cp:lastModifiedBy>wtwining</cp:lastModifiedBy>
  <cp:lastPrinted>2013-03-26T13:59:02Z</cp:lastPrinted>
  <dcterms:modified xsi:type="dcterms:W3CDTF">2013-08-27T18:45:40Z</dcterms:modified>
  <cp:revision>21</cp:revision>
  <dc:subject/>
  <dc:title>PowerPoint Presentation</dc:title>
</cp:coreProperties>
</file>